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F7A-B044-4198-9AD3-0B572C73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46E-4F94-48CC-BB91-5473FE8F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15D-70A6-434D-9AEC-6F32F535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2E4C-F624-423B-A21C-BB48839A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E9D-F154-4FC1-A279-C3CC8548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B31-1306-4796-A2EF-2F6FBF00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B4E2-7317-47DE-BCBD-BEE22922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CB6-F0FF-4456-BE92-C619C7F7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DB5-0B3B-45B7-AFDF-4DF6150B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0C4-DAF6-4E67-B7CB-7C8A7B31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9B74-CCB8-408F-BA7E-F1942A7F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B9A-C32D-4E7E-ABCD-0576B868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55F5-44AA-4860-9640-24CD63BF1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Graphs are a visual way to display dat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-347760" y="-189000"/>
            <a:ext cx="3249720" cy="180972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9"/>
          <p:cNvGrpSpPr/>
          <p:nvPr/>
        </p:nvGrpSpPr>
        <p:grpSpPr>
          <a:xfrm>
            <a:off x="152280" y="1828800"/>
            <a:ext cx="8686800" cy="4098240"/>
            <a:chOff x="152280" y="1828800"/>
            <a:chExt cx="8686800" cy="4098240"/>
          </a:xfrm>
        </p:grpSpPr>
        <p:graphicFrame>
          <p:nvGraphicFramePr>
            <p:cNvPr id="44" name="Object 2"/>
            <p:cNvGraphicFramePr/>
            <p:nvPr/>
          </p:nvGraphicFramePr>
          <p:xfrm>
            <a:off x="3260880" y="1933560"/>
            <a:ext cx="5578200" cy="3789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60880" y="1933560"/>
                      <a:ext cx="5578200" cy="37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6" name="TextBox 8"/>
            <p:cNvGrpSpPr/>
            <p:nvPr/>
          </p:nvGrpSpPr>
          <p:grpSpPr>
            <a:xfrm>
              <a:off x="152280" y="1828800"/>
              <a:ext cx="3308040" cy="4098240"/>
              <a:chOff x="152280" y="1828800"/>
              <a:chExt cx="3308040" cy="4098240"/>
            </a:xfrm>
          </p:grpSpPr>
          <p:pic>
            <p:nvPicPr>
              <p:cNvPr id="47" name="TextBox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52280" y="1828800"/>
                <a:ext cx="3308040" cy="403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360360" y="1933560"/>
                <a:ext cx="3049200" cy="39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Calibri"/>
                  </a:rPr>
                  <a:t>Bar graphs use bars to compare quantities. The height or length of the bar represents a designated number.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" name="Group 11"/>
          <p:cNvGrpSpPr/>
          <p:nvPr/>
        </p:nvGrpSpPr>
        <p:grpSpPr>
          <a:xfrm>
            <a:off x="380880" y="1905120"/>
            <a:ext cx="8467920" cy="4588560"/>
            <a:chOff x="380880" y="1905120"/>
            <a:chExt cx="8467920" cy="4588560"/>
          </a:xfrm>
        </p:grpSpPr>
        <p:graphicFrame>
          <p:nvGraphicFramePr>
            <p:cNvPr id="50" name="Object 3"/>
            <p:cNvGraphicFramePr/>
            <p:nvPr/>
          </p:nvGraphicFramePr>
          <p:xfrm>
            <a:off x="3634560" y="2231280"/>
            <a:ext cx="5214240" cy="3268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34560" y="2231280"/>
                      <a:ext cx="5214240" cy="326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2" name="TextBox 10"/>
            <p:cNvGrpSpPr/>
            <p:nvPr/>
          </p:nvGrpSpPr>
          <p:grpSpPr>
            <a:xfrm>
              <a:off x="380880" y="1905120"/>
              <a:ext cx="4229280" cy="4588560"/>
              <a:chOff x="380880" y="1905120"/>
              <a:chExt cx="4229280" cy="4588560"/>
            </a:xfrm>
          </p:grpSpPr>
          <p:pic>
            <p:nvPicPr>
              <p:cNvPr id="53" name="TextBox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80880" y="1905120"/>
                <a:ext cx="4229280" cy="40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586080" y="2012760"/>
                <a:ext cx="3792240" cy="448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Calibri"/>
                  </a:rPr>
                  <a:t>Circle Graphs, or Pie Charts, compare parts of a whole. The circle represents the whole and is separated  into parts, which are usually expressed as percents. 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" name="Group 13"/>
          <p:cNvGrpSpPr/>
          <p:nvPr/>
        </p:nvGrpSpPr>
        <p:grpSpPr>
          <a:xfrm>
            <a:off x="304920" y="1905120"/>
            <a:ext cx="8762760" cy="3813120"/>
            <a:chOff x="304920" y="1905120"/>
            <a:chExt cx="8762760" cy="3813120"/>
          </a:xfrm>
        </p:grpSpPr>
        <p:graphicFrame>
          <p:nvGraphicFramePr>
            <p:cNvPr id="56" name="Object 4"/>
            <p:cNvGraphicFramePr/>
            <p:nvPr/>
          </p:nvGraphicFramePr>
          <p:xfrm>
            <a:off x="3488760" y="1905120"/>
            <a:ext cx="5578920" cy="3813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7" name="Object 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488760" y="1905120"/>
                      <a:ext cx="5578920" cy="381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8" name="TextBox 12"/>
            <p:cNvGrpSpPr/>
            <p:nvPr/>
          </p:nvGrpSpPr>
          <p:grpSpPr>
            <a:xfrm>
              <a:off x="304920" y="2176200"/>
              <a:ext cx="3314520" cy="2737440"/>
              <a:chOff x="304920" y="2176200"/>
              <a:chExt cx="3314520" cy="2737440"/>
            </a:xfrm>
          </p:grpSpPr>
          <p:pic>
            <p:nvPicPr>
              <p:cNvPr id="59" name="TextBox 12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4920" y="2176200"/>
                <a:ext cx="3314520" cy="273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513000" y="2285640"/>
                <a:ext cx="304992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Calibri"/>
                  </a:rPr>
                  <a:t>A line graph shows how sets of data change over a period of time.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xit" presetID="2" presetSubtype="2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xit" presetID="54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" nodeType="afterEffect" fill="hold" presetClass="exit" presetID="3" presetSubtype="5">
                                  <p:stCondLst>
                                    <p:cond delay="5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3:12:42Z</dcterms:created>
  <dc:creator>RRISD</dc:creator>
  <dc:description/>
  <dc:language>en-US</dc:language>
  <cp:lastModifiedBy>RRISD</cp:lastModifiedBy>
  <dcterms:modified xsi:type="dcterms:W3CDTF">2009-03-24T18:32:44Z</dcterms:modified>
  <cp:revision>17</cp:revision>
  <dc:subject/>
  <dc:title>Slide 1</dc:title>
</cp:coreProperties>
</file>